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71134"/>
        <c:axId val="77845510"/>
      </c:barChart>
      <c:catAx>
        <c:axId val="58471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45510"/>
        <c:crosses val="autoZero"/>
        <c:auto val="1"/>
        <c:lblAlgn val="ctr"/>
        <c:lblOffset val="100"/>
        <c:noMultiLvlLbl val="0"/>
      </c:catAx>
      <c:valAx>
        <c:axId val="77845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71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264-4C4A-4E94-8766-B06BA89D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8DB-A81E-44D5-A156-E74D6F7B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C41-32FC-41E7-95DA-6488171E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1F7-8252-413E-AE5A-1569F283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B59-FD45-4CF8-A3DF-2F237B00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AF5-3CD2-4DE4-9047-6E3DE7C9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B7A-85A5-48DC-953B-8BD3D680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45D-7C25-4301-B09A-B69F8D2B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DA4-4F02-403F-9385-5BC4237D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64A-6DBB-402E-BD7B-6E538A75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C940-FDAF-447B-8212-DFEAC547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6C2-122C-48DA-879D-821B0CB0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7E4DD-B1C9-4F10-89C8-5D576B56E7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